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0691813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25E-97B3-47C6-8859-FD5CCB11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238-4231-4B3A-B88B-0BABDD3D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C67-35F1-453A-BB38-71148FB6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D62-62BD-499D-857F-7F5BF99F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9ED8-9BB3-4D24-B590-DD355B76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355E-DE4B-48B5-9BA4-9F6D7B7B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3962-C424-4AC3-BF90-43150D1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92D6-54F3-492F-9A57-F3179BF0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30C1-8DB1-4C81-9D66-384B0DD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B39E-5133-4542-9E4E-6C1A3276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649A-B44B-46E8-BD08-15FC3B1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C5D-45BC-4ECE-9446-093EAC6C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14D5-30F8-44BB-90F9-C1CE5F7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A991-A4BD-43C4-B317-A8D67E2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57EA-B9CD-4BD0-9F16-1930ADAB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0F4B-AF50-4F5F-9093-A5F22101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8B2-72C8-4F25-B25A-8BD7375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9BE8-1753-4E89-95A1-CFD40982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ACAD-67A5-45B3-9A52-5E64B84D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1A39-5A90-436E-917F-12E75766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7605-25BC-4481-8403-41EB2311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31B5-212A-4014-965E-D818AF0B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411-854C-4326-819F-C8031535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E554-03A1-4CAC-B904-DDA07DF9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06EA-B8DC-4BA1-BB9E-0A02C535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78C6-D9FA-4157-8D29-161F91A9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FEF2-DB82-4F56-B515-265763DA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1DB6-A9AA-44BF-B705-65C9D68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E127-DD91-4058-B98D-BBADB4DF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CD26-EA00-49F2-9A71-629534C1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69C-DA8B-47DB-894E-0C4171EF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6EF-E271-412D-B1FF-B268F881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619-DBBE-431F-B9B7-87AF328B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C57-0051-4628-B6AA-531B246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813-ADB8-438D-B713-5D7D3998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AD5-2ECD-4579-857A-A635FD4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C742-07E5-4052-9C23-6ECF4BF7510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483C-AB14-4F7A-B3F7-7F47324D74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3B86A929-5D8E-49E6-8EBD-34B96DDEB809}" type="datetime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55725399-5347-437C-B5A3-1FDA6207876C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logo.png"/>
          <p:cNvPicPr/>
          <p:nvPr/>
        </p:nvPicPr>
        <p:blipFill>
          <a:blip r:embed="rId2"/>
          <a:stretch/>
        </p:blipFill>
        <p:spPr>
          <a:xfrm>
            <a:off x="8924760" y="581040"/>
            <a:ext cx="938520" cy="63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on.jpg"/>
          <p:cNvPicPr/>
          <p:nvPr/>
        </p:nvPicPr>
        <p:blipFill>
          <a:blip r:embed="rId3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ogo.png"/>
          <p:cNvPicPr/>
          <p:nvPr/>
        </p:nvPicPr>
        <p:blipFill>
          <a:blip r:embed="rId4"/>
          <a:stretch/>
        </p:blipFill>
        <p:spPr>
          <a:xfrm>
            <a:off x="9102600" y="433440"/>
            <a:ext cx="939960" cy="6318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1"/>
          <p:cNvSpPr/>
          <p:nvPr/>
        </p:nvSpPr>
        <p:spPr>
          <a:xfrm>
            <a:off x="846000" y="1409760"/>
            <a:ext cx="9004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7931160" y="697536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AAFAA-0918-4ACF-B30D-69FFD1A6FC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88BA-6D07-4EC1-AA37-46A818CF6213}" type="datetime">
              <a:rPr b="1" lang="ru-RU" sz="14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DE9-D93D-49CF-AD3C-118D68D36704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Cover.jpg"/>
          <p:cNvPicPr/>
          <p:nvPr/>
        </p:nvPicPr>
        <p:blipFill>
          <a:blip r:embed="rId1"/>
          <a:stretch/>
        </p:blipFill>
        <p:spPr>
          <a:xfrm>
            <a:off x="7920" y="81000"/>
            <a:ext cx="10599840" cy="694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260000"/>
            <a:ext cx="5283000" cy="2181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 практике оценки эффективности деятельности ТК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1"/>
          <p:cNvSpPr/>
          <p:nvPr/>
        </p:nvSpPr>
        <p:spPr>
          <a:xfrm>
            <a:off x="2079720" y="1119240"/>
            <a:ext cx="6522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846000" y="7164360"/>
            <a:ext cx="9004320" cy="0"/>
          </a:xfrm>
          <a:prstGeom prst="line">
            <a:avLst/>
          </a:prstGeom>
          <a:ln w="6480">
            <a:solidFill>
              <a:srgbClr val="007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2" descr="logo.png"/>
          <p:cNvPicPr/>
          <p:nvPr/>
        </p:nvPicPr>
        <p:blipFill>
          <a:blip r:embed="rId2"/>
          <a:stretch/>
        </p:blipFill>
        <p:spPr>
          <a:xfrm>
            <a:off x="376200" y="268200"/>
            <a:ext cx="93996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Arial"/>
              </a:rPr>
              <a:t>О проведении оценки эффектив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Arial"/>
              </a:rPr>
              <a:t>деятельности Т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1096920" y="6229440"/>
            <a:ext cx="142920" cy="934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1239840" y="6229440"/>
            <a:ext cx="8859960" cy="934920"/>
          </a:xfrm>
          <a:prstGeom prst="rect">
            <a:avLst/>
          </a:prstGeom>
          <a:solidFill>
            <a:srgbClr val="d5d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Вывод</a:t>
            </a:r>
            <a:r>
              <a:rPr b="1" lang="en-US" sz="2000" spc="-1" strike="noStrike">
                <a:solidFill>
                  <a:srgbClr val="1f497d"/>
                </a:solidFill>
                <a:latin typeface="Verdana"/>
              </a:rPr>
              <a:t>:</a:t>
            </a: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 Установлен рост числа ТК с высшей оценкой 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1"/>
          <p:cNvGrpSpPr/>
          <p:nvPr/>
        </p:nvGrpSpPr>
        <p:grpSpPr>
          <a:xfrm>
            <a:off x="-54000" y="1547640"/>
            <a:ext cx="7058160" cy="4359960"/>
            <a:chOff x="-54000" y="1547640"/>
            <a:chExt cx="7058160" cy="4359960"/>
          </a:xfrm>
        </p:grpSpPr>
        <p:sp>
          <p:nvSpPr>
            <p:cNvPr id="137" name="Rectangle 28"/>
            <p:cNvSpPr/>
            <p:nvPr/>
          </p:nvSpPr>
          <p:spPr>
            <a:xfrm>
              <a:off x="3692520" y="4716360"/>
              <a:ext cx="358920" cy="647640"/>
            </a:xfrm>
            <a:prstGeom prst="rect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2251080" y="4716360"/>
              <a:ext cx="358920" cy="647640"/>
            </a:xfrm>
            <a:prstGeom prst="rect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1530360" y="5364000"/>
              <a:ext cx="4321440" cy="0"/>
            </a:xfrm>
            <a:prstGeom prst="line">
              <a:avLst/>
            </a:prstGeom>
            <a:ln w="31680">
              <a:solidFill>
                <a:srgbClr val="1f497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1530360" y="1692000"/>
              <a:ext cx="0" cy="3671640"/>
            </a:xfrm>
            <a:prstGeom prst="line">
              <a:avLst/>
            </a:prstGeom>
            <a:ln w="31680">
              <a:solidFill>
                <a:srgbClr val="1f497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3692520" y="2700360"/>
              <a:ext cx="358920" cy="20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>
              <a:off x="2251080" y="2700360"/>
              <a:ext cx="358920" cy="20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1"/>
            <p:cNvSpPr/>
            <p:nvPr/>
          </p:nvSpPr>
          <p:spPr>
            <a:xfrm>
              <a:off x="3692520" y="2195640"/>
              <a:ext cx="35892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2"/>
            <p:cNvSpPr/>
            <p:nvPr/>
          </p:nvSpPr>
          <p:spPr>
            <a:xfrm>
              <a:off x="2251080" y="2411280"/>
              <a:ext cx="358920" cy="289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1243080" y="2700360"/>
              <a:ext cx="280836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1243080" y="4716360"/>
              <a:ext cx="280836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1098720" y="4500720"/>
              <a:ext cx="360360" cy="2156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522360" y="4500720"/>
              <a:ext cx="5763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451080" y="4140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Calibri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>
              <a:off x="1170000" y="2484360"/>
              <a:ext cx="360360" cy="21600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94000" y="2484360"/>
              <a:ext cx="57600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522360" y="212400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Calibri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2"/>
            <p:cNvSpPr/>
            <p:nvPr/>
          </p:nvSpPr>
          <p:spPr>
            <a:xfrm>
              <a:off x="4194360" y="3476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ffcc00"/>
                  </a:solidFill>
                  <a:uFillTx/>
                  <a:latin typeface="Calibri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4"/>
            <p:cNvSpPr/>
            <p:nvPr/>
          </p:nvSpPr>
          <p:spPr>
            <a:xfrm>
              <a:off x="2754360" y="347652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ffcc00"/>
                  </a:solidFill>
                  <a:uFillTx/>
                  <a:latin typeface="Calibri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5"/>
            <p:cNvSpPr/>
            <p:nvPr/>
          </p:nvSpPr>
          <p:spPr>
            <a:xfrm>
              <a:off x="4194360" y="21956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99cc00"/>
                  </a:solidFill>
                  <a:uFillTx/>
                  <a:latin typeface="Calibri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6"/>
            <p:cNvSpPr/>
            <p:nvPr/>
          </p:nvSpPr>
          <p:spPr>
            <a:xfrm>
              <a:off x="2754360" y="219564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99cc00"/>
                  </a:solidFill>
                  <a:uFillTx/>
                  <a:latin typeface="Calibri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7"/>
            <p:cNvSpPr/>
            <p:nvPr/>
          </p:nvSpPr>
          <p:spPr>
            <a:xfrm>
              <a:off x="4194360" y="48448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de0000"/>
                  </a:solidFill>
                  <a:uFillTx/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8"/>
            <p:cNvSpPr/>
            <p:nvPr/>
          </p:nvSpPr>
          <p:spPr>
            <a:xfrm>
              <a:off x="2754360" y="484488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de0000"/>
                  </a:solidFill>
                  <a:uFillTx/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9"/>
            <p:cNvSpPr/>
            <p:nvPr/>
          </p:nvSpPr>
          <p:spPr>
            <a:xfrm>
              <a:off x="1962360" y="5508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Calibri"/>
                </a:rPr>
                <a:t>2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0"/>
            <p:cNvSpPr/>
            <p:nvPr/>
          </p:nvSpPr>
          <p:spPr>
            <a:xfrm>
              <a:off x="4051440" y="5508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Calibri"/>
                </a:rPr>
                <a:t>20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1"/>
            <p:cNvSpPr/>
            <p:nvPr/>
          </p:nvSpPr>
          <p:spPr>
            <a:xfrm>
              <a:off x="3043440" y="5508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Calibri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>
              <a:off x="2611440" y="5219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4051440" y="5219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>
              <a:off x="1890720" y="5219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9"/>
            <p:cNvSpPr/>
            <p:nvPr/>
          </p:nvSpPr>
          <p:spPr>
            <a:xfrm>
              <a:off x="-54000" y="1547640"/>
              <a:ext cx="151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ровень эффектив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0"/>
            <p:cNvSpPr/>
            <p:nvPr/>
          </p:nvSpPr>
          <p:spPr>
            <a:xfrm>
              <a:off x="5491440" y="545004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6067440" y="1592280"/>
          <a:ext cx="4105440" cy="3774960"/>
        </p:xfrm>
        <a:graphic>
          <a:graphicData uri="http://schemas.openxmlformats.org/drawingml/2006/table">
            <a:tbl>
              <a:tblPr/>
              <a:tblGrid>
                <a:gridCol w="3024000"/>
                <a:gridCol w="576360"/>
                <a:gridCol w="50508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деятельности ТК по национальной стандарт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деятельности ТК по межгосударственной стандарт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деятельности ТК по международной стандарт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организованности и открытости деятельности Т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738360" y="2052720"/>
            <a:ext cx="9504360" cy="3671640"/>
          </a:xfrm>
          <a:prstGeom prst="rect">
            <a:avLst/>
          </a:prstGeom>
          <a:solidFill>
            <a:srgbClr val="ebf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Актуализация 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(Пересмотр. Взамен ГОСТ  Р 1.1-2005.)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ГОСТ Р 1.1-2013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Стандартизация в Российской Федерации. Технические комитеты по стандартизации. Правила создания и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Актуализация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 (Пересмотр. Взамен ГОСТ Р 1.6-2005.)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ГОСТ Р 1.6-2013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Стандартизация в Российской Федерации. Проекты стандартов. Правила организации и проведения эксперти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3. Актуализация 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ГОСТ Р 1.16-2011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"Стандартизация в Российской Федерации. Стандарты национальные предварительные. Правила разработки, утверждения, применения и отмены". (Изменение N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. Актуализация 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ПР 50.1.008-2013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Правила по стандартизации "Организация и проведение работ по международной стандартизации в Российской Федерации.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5. Разработка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Правил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ПР 50.1.028-2015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Правила подготовки отзывов Российской Федерацией по проектам международных станда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Факторы, способствующие рос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числа эффективных Т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22360" y="1476360"/>
            <a:ext cx="98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1. Актуализация основополагающи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93640" y="2052720"/>
            <a:ext cx="144720" cy="3671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66720" y="1908000"/>
            <a:ext cx="9576000" cy="0"/>
          </a:xfrm>
          <a:prstGeom prst="line">
            <a:avLst/>
          </a:prstGeom>
          <a:ln w="349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22360" y="5797440"/>
            <a:ext cx="98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2. Установление приоритетных направлений станд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666720" y="6229440"/>
            <a:ext cx="9576000" cy="0"/>
          </a:xfrm>
          <a:prstGeom prst="line">
            <a:avLst/>
          </a:prstGeom>
          <a:ln w="349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2360" y="6296040"/>
            <a:ext cx="98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3. Введение перспективного планирования в национальной и межгосударственной станд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666720" y="6727680"/>
            <a:ext cx="9576000" cy="0"/>
          </a:xfrm>
          <a:prstGeom prst="line">
            <a:avLst/>
          </a:prstGeom>
          <a:ln w="349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449280" y="2987640"/>
            <a:ext cx="3744720" cy="2592360"/>
          </a:xfrm>
          <a:prstGeom prst="rect">
            <a:avLst/>
          </a:prstGeom>
          <a:solidFill>
            <a:srgbClr val="4f81bd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84200" y="31021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о сай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Влияние результатов оцен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Эффективности на деятельность Т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 rot="16200000">
            <a:off x="-199080" y="3925080"/>
            <a:ext cx="2448000" cy="718920"/>
          </a:xfrm>
          <a:prstGeom prst="rightArrow">
            <a:avLst>
              <a:gd name="adj1" fmla="val 48787"/>
              <a:gd name="adj2" fmla="val 945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Arial"/>
              </a:rPr>
              <a:t>70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0720" y="5869080"/>
            <a:ext cx="9793440" cy="100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ы новые МТК на базе секретариатов российских ТК. (Нанотехнологии, стальные и чугунные трубы и баллон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499080" y="2987640"/>
            <a:ext cx="3745080" cy="2592360"/>
          </a:xfrm>
          <a:prstGeom prst="rect">
            <a:avLst/>
          </a:prstGeom>
          <a:solidFill>
            <a:srgbClr val="4f81bd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7435800" y="308124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спертов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региональ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ах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д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 rot="16200000">
            <a:off x="5851440" y="3924360"/>
            <a:ext cx="2448000" cy="720720"/>
          </a:xfrm>
          <a:prstGeom prst="rightArrow">
            <a:avLst>
              <a:gd name="adj1" fmla="val 48704"/>
              <a:gd name="adj2" fmla="val 872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Arial"/>
              </a:rPr>
              <a:t>100 Э/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3544920" y="1547640"/>
            <a:ext cx="3529080" cy="792360"/>
          </a:xfrm>
          <a:prstGeom prst="rect">
            <a:avLst/>
          </a:prstGeom>
          <a:solidFill>
            <a:srgbClr val="4f81bd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елич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6"/>
          <p:cNvCxnSpPr>
            <a:stCxn id="185" idx="3"/>
            <a:endCxn id="182" idx="0"/>
          </p:cNvCxnSpPr>
          <p:nvPr/>
        </p:nvCxnSpPr>
        <p:spPr>
          <a:xfrm>
            <a:off x="7089480" y="1944360"/>
            <a:ext cx="1283400" cy="1027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AutoShape 17"/>
          <p:cNvCxnSpPr>
            <a:stCxn id="185" idx="1"/>
            <a:endCxn id="177" idx="0"/>
          </p:cNvCxnSpPr>
          <p:nvPr/>
        </p:nvCxnSpPr>
        <p:spPr>
          <a:xfrm flipV="1" rot="10800000">
            <a:off x="2322360" y="1943640"/>
            <a:ext cx="1207080" cy="1027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Новые условия деятельности МТ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 rot="5400000">
            <a:off x="5184720" y="3112920"/>
            <a:ext cx="503280" cy="541440"/>
          </a:xfrm>
          <a:prstGeom prst="rightArrow">
            <a:avLst>
              <a:gd name="adj1" fmla="val 48593"/>
              <a:gd name="adj2" fmla="val 6336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314360" y="3805200"/>
            <a:ext cx="9145800" cy="839880"/>
          </a:xfrm>
          <a:prstGeom prst="rect">
            <a:avLst/>
          </a:prstGeom>
          <a:noFill/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Необходимо разработать методику оценки эффективности деятельности МТ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314360" y="5221440"/>
            <a:ext cx="9145800" cy="1800000"/>
          </a:xfrm>
          <a:prstGeom prst="rect">
            <a:avLst/>
          </a:prstGeom>
          <a:noFill/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вышение роли МТК в планировании, разработке, экспертизе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Закрепление секретариатов МТК и фонда соответствующих межгосударственных стандартов за секретариатами национальных технических ком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312920" y="47894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Ожидаемый результат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43080" y="3348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Задача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0"/>
          <p:cNvGrpSpPr/>
          <p:nvPr/>
        </p:nvGrpSpPr>
        <p:grpSpPr>
          <a:xfrm>
            <a:off x="163440" y="1547640"/>
            <a:ext cx="10296720" cy="1441800"/>
            <a:chOff x="163440" y="1547640"/>
            <a:chExt cx="10296720" cy="1441800"/>
          </a:xfrm>
        </p:grpSpPr>
        <p:sp>
          <p:nvSpPr>
            <p:cNvPr id="195" name="Rectangle 12"/>
            <p:cNvSpPr/>
            <p:nvPr/>
          </p:nvSpPr>
          <p:spPr>
            <a:xfrm>
              <a:off x="163440" y="1547640"/>
              <a:ext cx="142920" cy="14418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06360" y="1547640"/>
              <a:ext cx="10153800" cy="1441800"/>
            </a:xfrm>
            <a:prstGeom prst="rect">
              <a:avLst/>
            </a:prstGeom>
            <a:solidFill>
              <a:srgbClr val="d5d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2200" spc="-1" strike="noStrike">
                  <a:solidFill>
                    <a:srgbClr val="1f497d"/>
                  </a:solidFill>
                  <a:latin typeface="Arial"/>
                </a:rPr>
                <a:t>1. Новое национальное законодательств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2200" spc="-1" strike="noStrike">
                  <a:solidFill>
                    <a:srgbClr val="1f497d"/>
                  </a:solidFill>
                  <a:latin typeface="Arial"/>
                </a:rPr>
                <a:t>2. Актуализация межгосударственных основополагающих стандарт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2200" spc="-1" strike="noStrike">
                  <a:solidFill>
                    <a:srgbClr val="1f497d"/>
                  </a:solidFill>
                  <a:latin typeface="Arial"/>
                </a:rPr>
                <a:t>3. Разработка информационной системы ФГИС МГ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450720" y="3421080"/>
            <a:ext cx="289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93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9500" spc="-1" strike="noStrike">
                <a:solidFill>
                  <a:srgbClr val="c0504d"/>
                </a:solidFill>
                <a:latin typeface="Arial"/>
              </a:rPr>
              <a:t>!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90360" y="5364000"/>
            <a:ext cx="129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0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2000" y="3805200"/>
            <a:ext cx="1081080" cy="844560"/>
          </a:xfrm>
          <a:prstGeom prst="rect">
            <a:avLst/>
          </a:prstGeom>
          <a:noFill/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62000" y="5221440"/>
            <a:ext cx="1081080" cy="1800000"/>
          </a:xfrm>
          <a:prstGeom prst="rect">
            <a:avLst/>
          </a:prstGeom>
          <a:noFill/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32:45Z</dcterms:created>
  <dc:creator>UstinovaES</dc:creator>
  <dc:description/>
  <dc:language>en-US</dc:language>
  <cp:lastModifiedBy>Мария Е. Смирнова</cp:lastModifiedBy>
  <cp:lastPrinted>2018-03-26T06:28:39Z</cp:lastPrinted>
  <dcterms:modified xsi:type="dcterms:W3CDTF">2018-04-06T13:13:32Z</dcterms:modified>
  <cp:revision>75</cp:revision>
  <dc:subject/>
  <dc:title>Слайд 1</dc:title>
</cp:coreProperties>
</file>